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FC8-F525-4A01-A0B4-5F484467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204-37AD-4C02-B9D4-C618632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6EB-338A-4445-9160-AFBA5790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3DC-DFFD-40F3-A491-8D5E15A3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3A3-339D-4119-9CF4-E2106AA9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38E-F06F-4452-9F6B-2765B5C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E3D-C28F-421E-B59D-3A727114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398-610D-432F-9B0B-CF8C6B17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C73-974E-4FEA-8BD3-842A6526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F65-34B7-4C2B-9259-D3188CF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1C7-E4AE-4C62-BFD4-B19F853C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AF3-0590-42CA-BFD9-AE83C94B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F21A-A951-461E-9826-520298EFA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rmkrai.ru/edu/city/perm/" TargetMode="External"/><Relationship Id="rId3" Type="http://schemas.openxmlformats.org/officeDocument/2006/relationships/hyperlink" Target="http://www.permkrai.ru/edu/city/berezniki/" TargetMode="External"/><Relationship Id="rId4" Type="http://schemas.openxmlformats.org/officeDocument/2006/relationships/hyperlink" Target="http://www.permkrai.ru/edu/city/kungur/" TargetMode="External"/><Relationship Id="rId5" Type="http://schemas.openxmlformats.org/officeDocument/2006/relationships/hyperlink" Target="http://www.permkrai.ru/edu/city/gubbaha/" TargetMode="External"/><Relationship Id="rId6" Type="http://schemas.openxmlformats.org/officeDocument/2006/relationships/hyperlink" Target="http://www.permkrai.ru/edu/city/gubbaha/" TargetMode="External"/><Relationship Id="rId7" Type="http://schemas.openxmlformats.org/officeDocument/2006/relationships/hyperlink" Target="http://www.permkrai.ru/edu/municipal/aleks/" TargetMode="External"/><Relationship Id="rId8" Type="http://schemas.openxmlformats.org/officeDocument/2006/relationships/hyperlink" Target="http://www.permkrai.ru/edu/municipal/vereschag/" TargetMode="External"/><Relationship Id="rId9" Type="http://schemas.openxmlformats.org/officeDocument/2006/relationships/hyperlink" Target="http://www.permkrai.ru/edu/municipal/vereschag/" TargetMode="External"/><Relationship Id="rId10" Type="http://schemas.openxmlformats.org/officeDocument/2006/relationships/hyperlink" Target="http://www.permkrai.ru/edu/municipal/vereschag/" TargetMode="External"/><Relationship Id="rId11" Type="http://schemas.openxmlformats.org/officeDocument/2006/relationships/hyperlink" Target="http://www.permkrai.ru/edu/municipal/vereschag/" TargetMode="External"/><Relationship Id="rId12" Type="http://schemas.openxmlformats.org/officeDocument/2006/relationships/hyperlink" Target="http://www.permkrai.ru/edu/municipal/dobrya/" TargetMode="External"/><Relationship Id="rId13" Type="http://schemas.openxmlformats.org/officeDocument/2006/relationships/hyperlink" Target="http://www.permkrai.ru/edu/municipal/dobrya/" TargetMode="External"/><Relationship Id="rId14" Type="http://schemas.openxmlformats.org/officeDocument/2006/relationships/hyperlink" Target="http://www.permkrai.ru/edu/municipal/krasnovish/" TargetMode="External"/><Relationship Id="rId15" Type="http://schemas.openxmlformats.org/officeDocument/2006/relationships/hyperlink" Target="http://www.permkrai.ru/edu/municipal/krasnovish/" TargetMode="External"/><Relationship Id="rId16" Type="http://schemas.openxmlformats.org/officeDocument/2006/relationships/hyperlink" Target="http://www.permkrai.ru/edu/municipal/krasnokamsk/" TargetMode="External"/><Relationship Id="rId17" Type="http://schemas.openxmlformats.org/officeDocument/2006/relationships/hyperlink" Target="http://www.permkrai.ru/edu/municipal/krasnokamsk/" TargetMode="Externa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587664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Пермь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2340000" y="476280"/>
            <a:ext cx="5613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Уполномоченный по защите прав предпринимателей в Пермском кра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7142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полномоченного по защите прав предпринимателей в Пермском кра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 2013-2014 г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7440" y="274320"/>
            <a:ext cx="720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ры, необходимые для улучшения инвестиционного климата в Пермском кра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ршенствование правового регулирования предпринимательской деятельности на федеральном, региональном и муниципальном уровня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ршенствование программ привлечения инвестиций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ранение административных барьеров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дрение стандартов АС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дрение оценки регулирующего воздейств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иление мер поддержки малого и среднего бизне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дрение оценки эффективности деятельности глав муниципалитетов по созданию условий для развития предпринимательства, взаимодействию органов местного самоуправления муниципальных образований края с предпринимательским сообществом, сокращению административных барье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7440" y="274320"/>
            <a:ext cx="720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комендации органам местного самоуправления Пермского кр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бизнес-паспорта муниципального образова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суждение предложений предпринимателей на Координационных советах по развитию предпринимательства при главах муниципалите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верждение муниципальных программ развития, синхронизированных с региональными экономическими программ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ие объединению предпринимателей в отраслевые  Союзы по сферам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частно-государственного партнер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мер по улучшению делового климата и привлечению инвестиций в территор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дрение оценки регулирующего воздействия на муниципальном уров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муниципальных программ развития малого и среднего предприниматель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равного доступа субъектов предпринимательской деятельности к получению мер государственной поддержки и заключению муниципальных и государственных контрак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работы по снижению административных барьеров на местном уров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Уполномоченного на 2014 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щита прав и законных интересов субъектов предпринимательской деятельности, обратившихся к Уполномоченном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Аппарата Уполномоченно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 Соглашений о сотрудничестве с ОГВ, общественными организациями, экспер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Общественного и Экспертного советов при Уполномоченн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общественных приемных Уполномоченного в территориях П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сение предложений по совершенствованию правового регулирования предприниматель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встреч с предпринимательским сообществом в территориях П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ение контроля за внедрением стандартов АСИ и оценки регулирующего воздействия в П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защите прав предпринимателей в Пермском кра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в Вячеслав Арту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belov@ag.permkrai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.Советская, д.64, г.Пер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7440" y="274320"/>
            <a:ext cx="720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оздание института Уполномоченных по защите прав предпринима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07.05.2012 год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– решение о создании института Уполномоченных по защите прав предпринимателей в Российской Федерации на федеральном и региональном уровнях  - Указ Президента Российской Федерации от 07.05.2012 № 596 «О долгосрочной государственной экономической политике»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4.02.2013 год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назначение советником губернатора Пермского края Белова Вячеслава Артурович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5.04.2013 год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– издание Указа губернатора Пермского края № 37 «Об Уполномоченном по защите прав предпринимателей в Пермском крае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07.05.2013 год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– принятие Федерального закона № 78-ФЗ «Об Уполномоченных по защите прав предпринимателей в Российской Федерации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1.11.2013 год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 принятие Закона Пермского края от № 250-ПК «Об Уполномоченном по защите прав предпринимателей в Пермском крае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20.02.2014 год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назначение на государственную должность Пермского края Уполномоченного по защите прав предпринимателей в Пермском крае В.А. Белова (Постановление Законодательного Собрания Пермского края от 20.02.2014 г. № 1167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05.09.2014 год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– Законом Пермского края №369-ПК внесена в Устав Пермского края государственная должность – Уполномоченный по защите прав предпринимателей в Пермском кра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7440" y="274320"/>
            <a:ext cx="720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и и задачи Уполномочен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защита прав и законных интересов субъектов предпринимательской деятельности, зарегистрированных в органе, осуществляющем государственную регистрацию на территории Пермского края в соответствии с законодательством Российской Федерации, международными договорами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осуществление контроля за соблюдением прав и законных интересов субъектов предпринимательской деятельности органами государственной власти Пермского края, территориальными органами федеральных органов исполнительной власти в Пермском крае, органами местного самоуправления, иными органами, организациями, наделенными федеральным законом отдельными государственными или иными публичными полномочиями, должностными лицам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содействие развитию общественных институтов, ориентированных на защиту прав и законных интересов субъектов предпринимательской деятель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заимодействие с предпринимательским сообщество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равовое просвещение субъектов предпринимательской деятельности по вопросам принадлежащих им прав и законных интересов, форм и методов их защи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разработка предложений по совершенствованию нормативных правовых актов Российской Федерации и Пермского края в сфере развития и поддержки субъектов предпринимательской деятель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дготовка аналитических материалов по вопросам создания условий для ведения предпринимательской деятель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частие в формировании и реализации государственной политики в области развития предпринимательской деятельности, защиты прав и законных интересов субъектов предпринимательской деятельности, выдвижение и поддержка соответствующих инициати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ассмотрение обращений предпринимателей в 2013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7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за 2013 год в адрес Уполномоченного по защите прав предпринимателей в Пермском крае поступило 164 обращения. 62 обращения поступили устно, 102 - письменно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з общего количества поступивших обращений 112 обращений являются жалобами (68%)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из общего числа отработанных жалоб в 22 указанные в обращении факты не подтвердились, что составляет 20 %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в 63 случаях (56%) дать оценку обоснованности не представляется возможным, всем обратившимся были даны разъяснения и рекомендации по использованию надлежащих способов защиты их прав и законных интересо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0 жалоб (24% от принятых в работу) признаны обоснованными, факты нарушений подтвердились и после вмешательства Уполномоченного по защите прав предпринимателей в Пермском крае права предпринимателей были восстановлены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7 жалоб на конец 2013 года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остались в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7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5800680" cy="3733560"/>
          </a:xfrm>
          <a:prstGeom prst="rect">
            <a:avLst/>
          </a:prstGeom>
          <a:ln w="0">
            <a:noFill/>
          </a:ln>
        </p:spPr>
      </p:pic>
      <p:pic>
        <p:nvPicPr>
          <p:cNvPr id="57" name="Диаграмма 12" descr=""/>
          <p:cNvPicPr/>
          <p:nvPr/>
        </p:nvPicPr>
        <p:blipFill>
          <a:blip r:embed="rId3"/>
          <a:stretch/>
        </p:blipFill>
        <p:spPr>
          <a:xfrm>
            <a:off x="417600" y="4170240"/>
            <a:ext cx="39243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ография обращ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095120" y="1341000"/>
            <a:ext cx="75913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Жалобы Уполномоченному а 2013 году поступили из 13 муниципальных районов и 4 городских округов Пермского кр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04840" y="2006640"/>
          <a:ext cx="6934320" cy="4416480"/>
        </p:xfrm>
        <a:graphic>
          <a:graphicData uri="http://schemas.openxmlformats.org/drawingml/2006/table">
            <a:tbl>
              <a:tblPr/>
              <a:tblGrid>
                <a:gridCol w="4494240"/>
                <a:gridCol w="2440080"/>
              </a:tblGrid>
              <a:tr h="4201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инятых в работу обращ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г. Берез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г. 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Александровский 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Верещагинский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 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мунципальный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 район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Добрянский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Красновишерский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Краснокамский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нский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ий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ский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сунский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инский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нский муниципальный 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совской муниципальны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Челябин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рхангель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7440" y="274320"/>
            <a:ext cx="720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заимодействие с государственными органами и общественными организац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2013 году Уполномоченным  заключено 10 соглашений о взаимодейств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-х стороннее (Уполномоченный по правам человека в ПК, Уполномоченный по правам ребенка в ПК, Уполномоченный по защите прав предпринимателей в ПК, финансовый омбудсмен П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 МЧС по Пермскому к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министерства юстиции РФ по Пермскому к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потребнадзор по Пермскому к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ФНС по Пермскому к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 «Деловая Росс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ФИ по Пермскому к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куратура Пермского кр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мская торгово-промышленная пал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муниципальных образований Пермского кр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и  за 1 полугодие 2014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аппарат Уполномоченного по защите прав предпринимателей в Пермском крае поступило 106 обращений субъектов предпринимательской деятельности (45 обращений поступили устно, 61 – письменно), это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в 3 раза больше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чем за аналогичный период 2013 года (за первое полугодие 2013 года – 32 обращения)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а базе центров поддержки предпринимательства Пермского края организована работа общественных приемных Уполномоченного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в 30 территориях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ермского края. До конца года планируется открытие еще 8-ми общественных приемных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2014 году заключено еще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14 соглашений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 взаимодействии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У МВД РФ по ПК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едственное управление СК РФ по ПК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правление федеральной службы по ветеринарному и фитосанитарному надзору по ПК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осреестр по ПК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ерхнекамская ТПП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О «Пермский фонд развития предпринимательства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ермская объединенная краевая коллегия адвокато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ермская гильдия добросовестных предприяти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Центр экономических экспертиз «Налоги и финансовое право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тделение Минпромторга РФ по Пермскому кр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егиональное отделение ООО «Центр судебных и негосударственных экспертиз «ИНДЕКС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инистерство сельского хозяйства Пермского кра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ФАС Пермского кра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ермросста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правление Роскомнадзора по Пермскому кр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правление Федеральной службы судебных приставов по Пермскому кр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тверждены положения об Общественном и Экспертном советах при Уполномоченном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оведены встречи с предпринимательским сообществом в г.Краснокамск, г.Кунгур, г.Чайковский, ЗАТО Звездны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ные пробл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стабильность действующего законодательства, регулирующего предпринимательскую деятельность в различных сферах, включая сферу розничной торговли алкогольной продукцией и пивом, табачной продукции, сферу налогов и платежей в социальные фонды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стабильность во взаимоотношениях государства и муниципалитетов с предпринимательским сообществом в сфере использования принадлежащих им земли и имущества, выражающихся в отказе от продления договоров аренды земельных участков и недвижимого имущества, необоснованном, на взгляд предпринимателей, увеличении размеров арендной платы за используемое государственное и муниципальное имущество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существление финансовой поддержки субъектов малого и среднего предпринимательства по правилам, установленным на федеральном и региональном уровнях, без учета мнения муниципалитетов. Средства федерального и регионального бюджетов на эти цели зачастую приходят в муниципалитеты в четвертом квартале календарного года, что не позволяет их потратить эффективно и в полном объеме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изкая информированность предпринимателей об утвержденных перечнях государственного или муниципального имущества, предназначенного для передачи во владение и (или) пользование субъектам малого и среднего бизнеса и организациям, образующим инфраструктуру поддержки субъектов малого и среднего предпринимательств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овые ограничения субъектов предпринимательской деятельности при лицензировании розничной торговли алкогольной продукцией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ные пробл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збыточное число, на взгляд предпринимателей, контрольных и проверочных мероприятий органов государственного и муниципального контроля и надзора, правоохранительных органов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ысокие административные штрафы (одинаковые за аналогичные правонарушения и для больших компаний, и для индивидуальных предпринимателей, и для предприятий «микробизнеса»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изкая эффективность работы службы судебных приставов по взысканию задолженности с должников в пользу предпринимателей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определенный статус собственников нежилых помещений в многоквартирных жилых домах. Существо проблемы: отсутствие законодательного регулирования защиты прав собственников нежилых помещений, расположенных в многоквартирных жилых домах, в случае признания дома ветхим или аварийным, а также при распределении общедомовых расходов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начительное повышение кадастровой оценки земли, как следствие увеличение налоговых обязательств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доступность кредитования, «низкая доступность финансов» (высокие процентные ставки, невозможность предоставления необходимого залога или гарантии, обширный пакет запрашиваемых документов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рудности согласования разрешений с монополистами при подключении к энерго- и теплосетя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1191843772"/>
          <p:cNvPicPr/>
          <p:nvPr/>
        </p:nvPicPr>
        <p:blipFill>
          <a:blip r:embed="rId1"/>
          <a:stretch/>
        </p:blipFill>
        <p:spPr>
          <a:xfrm>
            <a:off x="714240" y="71280"/>
            <a:ext cx="7635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5:19:51Z</dcterms:created>
  <dc:creator>Камина Ольга Владимировна</dc:creator>
  <dc:description/>
  <dc:language>en-US</dc:language>
  <cp:lastModifiedBy>dm</cp:lastModifiedBy>
  <cp:lastPrinted>2014-08-20T06:18:54Z</cp:lastPrinted>
  <dcterms:modified xsi:type="dcterms:W3CDTF">2014-10-14T08:05:18Z</dcterms:modified>
  <cp:revision>34</cp:revision>
  <dc:subject/>
  <dc:title>ДОКЛАД  Уполномоченного по защите прав предпринимателей в Пермском крае  за 2013 год </dc:title>
</cp:coreProperties>
</file>