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75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72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40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40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A741-AEE5-4366-9A8A-70543FB86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66360" y="4704840"/>
            <a:ext cx="533412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44C4-7D57-48F0-9368-4747610025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776760" y="9407520"/>
            <a:ext cx="2889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E504-623D-4A85-801C-D5A88C11DB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58960" y="752400"/>
            <a:ext cx="4948200" cy="37134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66360" y="4703400"/>
            <a:ext cx="53341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AA8-B449-48A6-863E-7464EB3E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75D-3EB0-4C2B-A411-D41382CB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4A0-55CB-49FF-AB67-7C639566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530-3FBC-4BB2-B7BC-912D229B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AC6-A444-46E6-A2F8-005A8408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761-4D88-4912-891F-5573D78A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D63-5CAE-4143-A09B-1D5C8DED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377-DF9F-4244-8D86-FB4D83CE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D61-211E-4DB6-8869-594D27DD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472-28E7-4458-B098-22C53363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C78-2756-433C-813B-58471113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F80-F163-481B-98F4-416DD729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9381-356D-47FD-A8C6-A91A7284B3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58ed5"/>
                </a:solidFill>
                <a:latin typeface="Times New Roman"/>
              </a:rPr>
              <a:t>СОВЕТ ПО ПРЕДПРИНИМАТЕЛЬСТВУ ПРИ ГУБЕРНАТОРЕ ПЕРМСКОГО КР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Logo with Text 72dpi.jpg"/>
          <p:cNvPicPr/>
          <p:nvPr/>
        </p:nvPicPr>
        <p:blipFill>
          <a:blip r:embed="rId1"/>
          <a:stretch/>
        </p:blipFill>
        <p:spPr>
          <a:xfrm>
            <a:off x="3059280" y="1989000"/>
            <a:ext cx="4143240" cy="857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68556.jpg"/>
          <p:cNvPicPr/>
          <p:nvPr/>
        </p:nvPicPr>
        <p:blipFill>
          <a:blip r:embed="rId2"/>
          <a:stretch/>
        </p:blipFill>
        <p:spPr>
          <a:xfrm>
            <a:off x="428760" y="2071800"/>
            <a:ext cx="2143080" cy="3929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189310_html_e5c2695.jpg"/>
          <p:cNvPicPr/>
          <p:nvPr/>
        </p:nvPicPr>
        <p:blipFill>
          <a:blip r:embed="rId3"/>
          <a:stretch/>
        </p:blipFill>
        <p:spPr>
          <a:xfrm>
            <a:off x="2843280" y="3357720"/>
            <a:ext cx="4214880" cy="1083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chlenstvo1000080.gif"/>
          <p:cNvPicPr/>
          <p:nvPr/>
        </p:nvPicPr>
        <p:blipFill>
          <a:blip r:embed="rId4"/>
          <a:stretch/>
        </p:blipFill>
        <p:spPr>
          <a:xfrm>
            <a:off x="4643280" y="4869000"/>
            <a:ext cx="3214800" cy="92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2" descr="сотрудничество"/>
          <p:cNvPicPr/>
          <p:nvPr/>
        </p:nvPicPr>
        <p:blipFill>
          <a:blip r:embed="rId5"/>
          <a:stretch/>
        </p:blipFill>
        <p:spPr>
          <a:xfrm>
            <a:off x="7451640" y="2781360"/>
            <a:ext cx="1440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826920" y="2637000"/>
            <a:ext cx="76438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Times New Roman"/>
                <a:ea typeface="Microsoft YaHe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Губернатора Пермского края от 21.11.2012 г. № 95 «О создании Совета по предпринимательству при Губернаторе Пермского края» (ред. от 26.05.201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Губернатора Пермского края от 17.06.2014 г. № 124-р «Об утверждении состава Совета по предпринимательству при Губернаторе Пермского кра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МИССИЯ  И ЦЕЛЬ РАБОТЫ СОВ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484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сия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йствие созданию благоприятного климата для ведения бизнеса  и комфортной среды проживания в Пермском кра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539640" y="3357720"/>
            <a:ext cx="7993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т призван обозначить проблемы, препятствующие развитию бизнеса в Пермском крае и предложить  пути их реш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ОСНОВНЫЕ ЗАДАЧИ ДЕЯТЕЛЬНОСТИ СОВЕТА 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12500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овых подходов в развитии малого и среднего предпринимательства в Пермском кра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законодательства Пермского края в сфере развития малого и среднего   предпринимательства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взаимодействия общественных  объединений, выражающих интересы субъектов   малого и среднего предпринимательства, организаций, формирующих инфраструктуру поддержки       субъектов предпринимательской деятельности, органов законодательной и исполнительной власти Пермского края, органов местного самоуправления Пермского кр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ение советов по предпринимательству в муниципалитетах Пермского кр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ение бизнес-инкубатор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ффективного экспертного сообщества, заинтересованного в решении вопросов, связанных с развитием бизнес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популяризации малого  и среднего   предпринимательства и   формирование   позитивного   общественного  мнения о предпринимательской деятельности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распространению положительного опыта субъектов предпринимательской        деятельности   и  организаций,  выражающих интересы малого и среднего   предпринимательства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рактической помощи в защите прав и законных интересов субъектов предпринимательской деятельности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 и  поддержка   инициатив,   имеющих общероссийское  значение и  направленных  на реализацию   государственной  политики в   области развития малого и среднего   предпринимательств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кругленный прямоугольник 3"/>
          <p:cNvSpPr/>
          <p:nvPr/>
        </p:nvSpPr>
        <p:spPr>
          <a:xfrm>
            <a:off x="250920" y="5013360"/>
            <a:ext cx="835344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пертное сообщество – представители бизнеса и различных отраслей, общественные деятели, представители органов власти и эксперты науки, привлекаемые к работе Совета по инициативе совета или по собственной инициат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ОСТАВ СОВ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1763640" y="1052640"/>
            <a:ext cx="489600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ед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2340000" y="3933720"/>
            <a:ext cx="201600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тет по административным барье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6"/>
          <p:cNvSpPr/>
          <p:nvPr/>
        </p:nvSpPr>
        <p:spPr>
          <a:xfrm>
            <a:off x="395280" y="3933720"/>
            <a:ext cx="172872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тет по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7"/>
          <p:cNvSpPr/>
          <p:nvPr/>
        </p:nvSpPr>
        <p:spPr>
          <a:xfrm>
            <a:off x="4572000" y="3933720"/>
            <a:ext cx="208764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тет по управлению качеством и рис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8"/>
          <p:cNvSpPr/>
          <p:nvPr/>
        </p:nvSpPr>
        <p:spPr>
          <a:xfrm>
            <a:off x="6804000" y="3933720"/>
            <a:ext cx="1800360" cy="86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тет по инновациям и инвестициям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9"/>
          <p:cNvSpPr/>
          <p:nvPr/>
        </p:nvSpPr>
        <p:spPr>
          <a:xfrm>
            <a:off x="1476360" y="3068640"/>
            <a:ext cx="53992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иди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0"/>
          <p:cNvSpPr/>
          <p:nvPr/>
        </p:nvSpPr>
        <p:spPr>
          <a:xfrm>
            <a:off x="1692360" y="1916280"/>
            <a:ext cx="201600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председатель от Правительства Перм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1"/>
          <p:cNvSpPr/>
          <p:nvPr/>
        </p:nvSpPr>
        <p:spPr>
          <a:xfrm>
            <a:off x="4572000" y="1916280"/>
            <a:ext cx="201600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председатель от общественных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2"/>
          <p:cNvSpPr/>
          <p:nvPr/>
        </p:nvSpPr>
        <p:spPr>
          <a:xfrm>
            <a:off x="6948360" y="1916280"/>
            <a:ext cx="2016360" cy="865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арь Со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237960" y="396720"/>
            <a:ext cx="875988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ным собранием Пермского края в первом чтении принят проект закона Пермского края об оценке регулирующего воздействия в Пермском кра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частии членов Совета разрабатывается концепция инвестиционной политики в Пермском крае и внедряется стандарт инвестиционной привлекательности муниципалите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о внеси изменения в закон Пермской области от 30.08.2001 г. № 1685-296 «О налогообложении в Пермском крае» установив дифференцированный потенциально возможный к получению индивидуальным предпринимателем годовой доход по муниципальным образованиям (группам муниципальных образован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ом по предпринимательству предложено разработать и принять законы Пермского края «О государственно-частном партнерстве в Пермском крае», «Об инвестиционной деятельности в Пермском крае», «Об индустриальных и технологических парках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РЕЗУЛЬТАТЫ РАБОТЫ СОВ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179280" y="333360"/>
            <a:ext cx="896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АКТУАЛЬНЫЕ ПРОБЛЕМЫ БИЗНЕСА В ПЕРМСКОМ КРА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55640" y="1338840"/>
            <a:ext cx="799308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число контрольных и проверочных мероприятий органов государственного и муниципального контроля и надзора, правоохранительны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тлаженного взаимодействия и координации действий между  Советом по предпринимательству при губернаторе Пермского края и советами по предпринимательству в муниципалите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значения корректирующего коэффициента базовой доходности К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привлечении финансовых ресурсов на развитие бизнеса, получении земельных участков, недвижимого имущества в целях осуществления предприниматель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ость действующего законодательства, регулирующего предпринимательскую деятельность в различных сфе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зможность формирования устойчивых рынков сбыта, в том числе по причине недобросовестной конку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0" y="1197000"/>
            <a:ext cx="68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908000" y="260280"/>
            <a:ext cx="51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  <a:ea typeface="Microsoft YaHei"/>
              </a:rPr>
              <a:t>КОНТ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8360" y="981000"/>
          <a:ext cx="8137440" cy="528948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дырев Геннадий Геннадьеви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председателя Совета от  общественных организаций Пермского к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8 (342) 218 32 22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p@nip.perm.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енко Ирина Александ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ретарь Сове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 8 (342) 217 74 90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nikitenko@minpromtorg.permkrai.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бейникова Натал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омитета по административным барьер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8 (342) 291 19 19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@opora.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овых Юлия Серге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омитета по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342) 20 60 999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ovyh@permtpp.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отных Алексей Виктор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омитета по управлению качеством и рис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342) 206 67 67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bolotnikh@academy-bs.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бников Константин Валерь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омитета по инновациям и инвестиц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342) 237 15 88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ubnikof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95b3d7"/>
                      </a:solidFill>
                    </a:lnL>
                    <a:lnR w="4320">
                      <a:solidFill>
                        <a:srgbClr val="95b3d7"/>
                      </a:solidFill>
                    </a:lnR>
                    <a:lnT w="4320">
                      <a:solidFill>
                        <a:srgbClr val="95b3d7"/>
                      </a:solidFill>
                    </a:lnT>
                    <a:lnB w="4320">
                      <a:solidFill>
                        <a:srgbClr val="95b3d7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07:24Z</dcterms:created>
  <dc:creator>Admin</dc:creator>
  <dc:description/>
  <dc:language>en-US</dc:language>
  <cp:lastModifiedBy>dm</cp:lastModifiedBy>
  <dcterms:modified xsi:type="dcterms:W3CDTF">2014-10-14T08:04:39Z</dcterms:modified>
  <cp:revision>127</cp:revision>
  <dc:subject/>
  <dc:title>Совет по предпринимательству при Губернаторе Пермского края</dc:title>
</cp:coreProperties>
</file>